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735763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907920"/>
            <a:ext cx="82296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60e0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07920"/>
            <a:ext cx="82296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60e0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907920"/>
            <a:ext cx="82296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60e0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907920"/>
            <a:ext cx="82296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60e0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907920"/>
            <a:ext cx="82296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60e0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907920"/>
            <a:ext cx="82296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60e0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907920"/>
            <a:ext cx="82296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60e0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907920"/>
            <a:ext cx="8229600" cy="23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907920"/>
            <a:ext cx="82296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60e0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907920"/>
            <a:ext cx="82296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60e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907920"/>
            <a:ext cx="82296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60e0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907920"/>
            <a:ext cx="82296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60e0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907920"/>
            <a:ext cx="82296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60e0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907920"/>
            <a:ext cx="82296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60e0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907920"/>
            <a:ext cx="82296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60e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FCFFB0-55D9-4461-9FF7-EE70E60E3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907920"/>
            <a:ext cx="82296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60e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4652A-7E25-4AA0-8D5B-DFD13180D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907920"/>
            <a:ext cx="82296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60e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2FFA36-6A45-4EA6-822D-E38484AA0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907920"/>
            <a:ext cx="82296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60e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EAD013-BE9C-45FC-9594-DAD66A6FB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907920"/>
            <a:ext cx="82296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60e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2972AA-E261-4DFC-8B2D-910D4C157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7920"/>
            <a:ext cx="82296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60e0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907920"/>
            <a:ext cx="8229600" cy="23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4DB22D-60CF-4712-BD2E-B75F2B577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907920"/>
            <a:ext cx="82296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60e0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A279C5-3A47-4DC6-B80C-C2A0528A6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907920"/>
            <a:ext cx="82296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60e0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136BCA-CBB6-4A67-9155-98860830A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907920"/>
            <a:ext cx="82296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60e0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CFD5A1-7BDD-4169-8C61-F7419AC98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907920"/>
            <a:ext cx="82296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60e0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3A43C-F5F3-414B-A45D-7F53A7F3D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907920"/>
            <a:ext cx="82296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60e0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345B27-D141-4127-A91E-5C657F6F9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907920"/>
            <a:ext cx="82296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60e0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2C288F-D7A4-4AED-974B-78F70A188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2128AA-BCB4-458E-A783-60A982435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907920"/>
            <a:ext cx="82296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60e0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E370D9-38F6-433D-ADE7-390E4D0CA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907920"/>
            <a:ext cx="82296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60e0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E97082-87F0-4D42-874A-FAB8BCE2D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07920"/>
            <a:ext cx="82296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60e0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907920"/>
            <a:ext cx="82296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60e0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03E5C0-78C5-44B4-B95B-F0695CF61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907920"/>
            <a:ext cx="82296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60e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FC90E1-58B3-44D7-B564-6747D8F29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907920"/>
            <a:ext cx="8229600" cy="23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17A89C-AAA7-48D8-90C9-5B3E0CA19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907920"/>
            <a:ext cx="82296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60e0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AB1E14-1716-4A8A-8C91-94148EE34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907920"/>
            <a:ext cx="82296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60e0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461A60-406A-40C3-BB7C-1794D29B3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907920"/>
            <a:ext cx="82296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60e0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724EC2-8DFE-4DBF-8F36-CE22D027D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907920"/>
            <a:ext cx="82296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60e0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695B0E-FE33-4B11-B1FD-90B6288CC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907920"/>
            <a:ext cx="82296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60e0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A2E652-02FF-4CDE-9722-AFFB9C1E2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907920"/>
            <a:ext cx="82296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60e0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DB2EF3-CE2A-4691-B77E-2663D1B1D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907920"/>
            <a:ext cx="82296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60e0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907920"/>
            <a:ext cx="8229600" cy="23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907920"/>
            <a:ext cx="82296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60e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907920"/>
            <a:ext cx="82296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60e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907920"/>
            <a:ext cx="82296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60e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3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2" descr="Polosa-right-(01)"/>
          <p:cNvPicPr/>
          <p:nvPr/>
        </p:nvPicPr>
        <p:blipFill>
          <a:blip r:embed="rId2"/>
          <a:stretch/>
        </p:blipFill>
        <p:spPr>
          <a:xfrm>
            <a:off x="5705640" y="4680"/>
            <a:ext cx="3438360" cy="685332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25"/>
          <p:cNvGrpSpPr/>
          <p:nvPr/>
        </p:nvGrpSpPr>
        <p:grpSpPr>
          <a:xfrm>
            <a:off x="612720" y="0"/>
            <a:ext cx="1703520" cy="6858000"/>
            <a:chOff x="612720" y="0"/>
            <a:chExt cx="1703520" cy="6858000"/>
          </a:xfrm>
        </p:grpSpPr>
        <p:sp>
          <p:nvSpPr>
            <p:cNvPr id="2" name="Rectangle 16"/>
            <p:cNvSpPr/>
            <p:nvPr/>
          </p:nvSpPr>
          <p:spPr>
            <a:xfrm>
              <a:off x="757080" y="0"/>
              <a:ext cx="1559160" cy="6858000"/>
            </a:xfrm>
            <a:prstGeom prst="rect">
              <a:avLst/>
            </a:prstGeom>
            <a:solidFill>
              <a:srgbClr val="fff3f3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17"/>
            <p:cNvSpPr/>
            <p:nvPr/>
          </p:nvSpPr>
          <p:spPr>
            <a:xfrm>
              <a:off x="612720" y="0"/>
              <a:ext cx="88920" cy="6858000"/>
            </a:xfrm>
            <a:prstGeom prst="rect">
              <a:avLst/>
            </a:prstGeom>
            <a:solidFill>
              <a:srgbClr val="fff3f3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Rectangle 18"/>
          <p:cNvSpPr/>
          <p:nvPr/>
        </p:nvSpPr>
        <p:spPr>
          <a:xfrm>
            <a:off x="0" y="434880"/>
            <a:ext cx="9144000" cy="36036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26"/>
          <p:cNvSpPr/>
          <p:nvPr/>
        </p:nvSpPr>
        <p:spPr>
          <a:xfrm>
            <a:off x="612720" y="469800"/>
            <a:ext cx="85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1400" spc="-1" strike="noStrike">
                <a:solidFill>
                  <a:srgbClr val="eee0de"/>
                </a:solidFill>
                <a:latin typeface="Arial"/>
              </a:rPr>
              <a:t>ВОЛИНСЬКА ОБЛАСНА ДЕРЖАВНА АДМІНІСТРАЦІ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27" descr="Gerb-Vol-2011-01-sm"/>
          <p:cNvPicPr/>
          <p:nvPr/>
        </p:nvPicPr>
        <p:blipFill>
          <a:blip r:embed="rId3"/>
          <a:stretch/>
        </p:blipFill>
        <p:spPr>
          <a:xfrm>
            <a:off x="8047080" y="349200"/>
            <a:ext cx="527040" cy="58284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7920"/>
            <a:ext cx="82296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60e06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560e0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0680" indent="-220680">
              <a:spcBef>
                <a:spcPts val="425"/>
              </a:spcBef>
              <a:buClr>
                <a:srgbClr val="cc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24624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677880" indent="-182520">
              <a:spcBef>
                <a:spcPts val="425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898560" indent="-19692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1104840" indent="-174600">
              <a:spcBef>
                <a:spcPts val="4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1104840" indent="-174600">
              <a:spcBef>
                <a:spcPts val="4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1104840" indent="-174600">
              <a:spcBef>
                <a:spcPts val="4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35" descr="Tryzub-00-(postanova)-sm"/>
          <p:cNvPicPr/>
          <p:nvPr/>
        </p:nvPicPr>
        <p:blipFill>
          <a:blip r:embed="rId4"/>
          <a:stretch/>
        </p:blipFill>
        <p:spPr>
          <a:xfrm>
            <a:off x="1017720" y="368280"/>
            <a:ext cx="439560" cy="612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32" descr="Polosa-right-(01)"/>
          <p:cNvPicPr/>
          <p:nvPr/>
        </p:nvPicPr>
        <p:blipFill>
          <a:blip r:embed="rId2"/>
          <a:stretch/>
        </p:blipFill>
        <p:spPr>
          <a:xfrm>
            <a:off x="5705640" y="4680"/>
            <a:ext cx="3438360" cy="6853320"/>
          </a:xfrm>
          <a:prstGeom prst="rect">
            <a:avLst/>
          </a:prstGeom>
          <a:ln w="0">
            <a:noFill/>
          </a:ln>
        </p:spPr>
      </p:pic>
      <p:grpSp>
        <p:nvGrpSpPr>
          <p:cNvPr id="47" name="Group 25"/>
          <p:cNvGrpSpPr/>
          <p:nvPr/>
        </p:nvGrpSpPr>
        <p:grpSpPr>
          <a:xfrm>
            <a:off x="612720" y="0"/>
            <a:ext cx="1703520" cy="6858000"/>
            <a:chOff x="612720" y="0"/>
            <a:chExt cx="1703520" cy="6858000"/>
          </a:xfrm>
        </p:grpSpPr>
        <p:sp>
          <p:nvSpPr>
            <p:cNvPr id="48" name="Rectangle 16"/>
            <p:cNvSpPr/>
            <p:nvPr/>
          </p:nvSpPr>
          <p:spPr>
            <a:xfrm>
              <a:off x="757080" y="0"/>
              <a:ext cx="1559160" cy="6858000"/>
            </a:xfrm>
            <a:prstGeom prst="rect">
              <a:avLst/>
            </a:prstGeom>
            <a:solidFill>
              <a:srgbClr val="fff3f3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17"/>
            <p:cNvSpPr/>
            <p:nvPr/>
          </p:nvSpPr>
          <p:spPr>
            <a:xfrm>
              <a:off x="612720" y="0"/>
              <a:ext cx="88920" cy="6858000"/>
            </a:xfrm>
            <a:prstGeom prst="rect">
              <a:avLst/>
            </a:prstGeom>
            <a:solidFill>
              <a:srgbClr val="fff3f3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Rectangle 18"/>
          <p:cNvSpPr/>
          <p:nvPr/>
        </p:nvSpPr>
        <p:spPr>
          <a:xfrm>
            <a:off x="0" y="434880"/>
            <a:ext cx="9144000" cy="36036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26"/>
          <p:cNvSpPr/>
          <p:nvPr/>
        </p:nvSpPr>
        <p:spPr>
          <a:xfrm>
            <a:off x="612720" y="469800"/>
            <a:ext cx="85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1400" spc="-1" strike="noStrike">
                <a:solidFill>
                  <a:srgbClr val="eee0de"/>
                </a:solidFill>
                <a:latin typeface="Arial"/>
              </a:rPr>
              <a:t>ВОЛИНСЬКА ОБЛАСНА ДЕРЖАВНА АДМІНІСТРАЦІ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7" descr="Gerb-Vol-2011-01-sm"/>
          <p:cNvPicPr/>
          <p:nvPr/>
        </p:nvPicPr>
        <p:blipFill>
          <a:blip r:embed="rId3"/>
          <a:stretch/>
        </p:blipFill>
        <p:spPr>
          <a:xfrm>
            <a:off x="8047080" y="349200"/>
            <a:ext cx="527040" cy="5828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5" descr="Tryzub-00-(postanova)-sm"/>
          <p:cNvPicPr/>
          <p:nvPr/>
        </p:nvPicPr>
        <p:blipFill>
          <a:blip r:embed="rId4"/>
          <a:stretch/>
        </p:blipFill>
        <p:spPr>
          <a:xfrm>
            <a:off x="1017720" y="368280"/>
            <a:ext cx="439560" cy="6127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S-1-Fon-01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5" name="Group 3"/>
          <p:cNvGrpSpPr/>
          <p:nvPr/>
        </p:nvGrpSpPr>
        <p:grpSpPr>
          <a:xfrm>
            <a:off x="404640" y="0"/>
            <a:ext cx="1703520" cy="6858000"/>
            <a:chOff x="404640" y="0"/>
            <a:chExt cx="1703520" cy="6858000"/>
          </a:xfrm>
        </p:grpSpPr>
        <p:sp>
          <p:nvSpPr>
            <p:cNvPr id="56" name="Rectangle 4"/>
            <p:cNvSpPr/>
            <p:nvPr/>
          </p:nvSpPr>
          <p:spPr>
            <a:xfrm>
              <a:off x="549000" y="0"/>
              <a:ext cx="1559160" cy="6858000"/>
            </a:xfrm>
            <a:prstGeom prst="rect">
              <a:avLst/>
            </a:prstGeom>
            <a:solidFill>
              <a:srgbClr val="fff3f3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5"/>
            <p:cNvSpPr/>
            <p:nvPr/>
          </p:nvSpPr>
          <p:spPr>
            <a:xfrm>
              <a:off x="404640" y="0"/>
              <a:ext cx="88920" cy="6858000"/>
            </a:xfrm>
            <a:prstGeom prst="rect">
              <a:avLst/>
            </a:prstGeom>
            <a:solidFill>
              <a:srgbClr val="fff3f3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Rectangle 6"/>
          <p:cNvSpPr/>
          <p:nvPr/>
        </p:nvSpPr>
        <p:spPr>
          <a:xfrm>
            <a:off x="0" y="434880"/>
            <a:ext cx="9144000" cy="36036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9"/>
          <p:cNvSpPr/>
          <p:nvPr/>
        </p:nvSpPr>
        <p:spPr>
          <a:xfrm>
            <a:off x="612720" y="469800"/>
            <a:ext cx="85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1400" spc="-1" strike="noStrike">
                <a:solidFill>
                  <a:srgbClr val="eee0de"/>
                </a:solidFill>
                <a:latin typeface="Arial"/>
              </a:rPr>
              <a:t>ВОЛИНСЬКА ОБЛАСНА ДЕРЖАВНА АДМІНІСТРАЦІ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3" descr="Prapor-0"/>
          <p:cNvPicPr/>
          <p:nvPr/>
        </p:nvPicPr>
        <p:blipFill>
          <a:blip r:embed="rId6"/>
          <a:stretch/>
        </p:blipFill>
        <p:spPr>
          <a:xfrm>
            <a:off x="1241280" y="587520"/>
            <a:ext cx="976320" cy="6904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7" descr="Prapor-Vol-2011-01"/>
          <p:cNvPicPr/>
          <p:nvPr/>
        </p:nvPicPr>
        <p:blipFill>
          <a:blip r:embed="rId7"/>
          <a:stretch/>
        </p:blipFill>
        <p:spPr>
          <a:xfrm>
            <a:off x="7413480" y="539640"/>
            <a:ext cx="1036800" cy="7635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0" descr="Prapor-UA-2011-03"/>
          <p:cNvPicPr/>
          <p:nvPr/>
        </p:nvPicPr>
        <p:blipFill>
          <a:blip r:embed="rId8"/>
          <a:stretch/>
        </p:blipFill>
        <p:spPr>
          <a:xfrm>
            <a:off x="1211400" y="539640"/>
            <a:ext cx="1042920" cy="7621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6" descr="Tryzub-00-(postanova)-sm"/>
          <p:cNvPicPr/>
          <p:nvPr/>
        </p:nvPicPr>
        <p:blipFill>
          <a:blip r:embed="rId9"/>
          <a:stretch/>
        </p:blipFill>
        <p:spPr>
          <a:xfrm>
            <a:off x="888840" y="879480"/>
            <a:ext cx="439920" cy="6127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1" descr="Gerb-Vol-2011-01-sm"/>
          <p:cNvPicPr/>
          <p:nvPr/>
        </p:nvPicPr>
        <p:blipFill>
          <a:blip r:embed="rId10"/>
          <a:stretch/>
        </p:blipFill>
        <p:spPr>
          <a:xfrm>
            <a:off x="8142120" y="901800"/>
            <a:ext cx="527040" cy="58248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907920"/>
            <a:ext cx="82296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60e06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560e0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0680" indent="-220680">
              <a:spcBef>
                <a:spcPts val="425"/>
              </a:spcBef>
              <a:buClr>
                <a:srgbClr val="cc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24624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677880" indent="-182520">
              <a:spcBef>
                <a:spcPts val="425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898560" indent="-19692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1104840" indent="-174600">
              <a:spcBef>
                <a:spcPts val="4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1104840" indent="-174600">
              <a:spcBef>
                <a:spcPts val="4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1104840" indent="-174600">
              <a:spcBef>
                <a:spcPts val="4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32" descr="Polosa-right-(01)"/>
          <p:cNvPicPr/>
          <p:nvPr/>
        </p:nvPicPr>
        <p:blipFill>
          <a:blip r:embed="rId2"/>
          <a:stretch/>
        </p:blipFill>
        <p:spPr>
          <a:xfrm>
            <a:off x="5705640" y="4680"/>
            <a:ext cx="3438360" cy="6853320"/>
          </a:xfrm>
          <a:prstGeom prst="rect">
            <a:avLst/>
          </a:prstGeom>
          <a:ln w="0">
            <a:noFill/>
          </a:ln>
        </p:spPr>
      </p:pic>
      <p:grpSp>
        <p:nvGrpSpPr>
          <p:cNvPr id="104" name="Group 25"/>
          <p:cNvGrpSpPr/>
          <p:nvPr/>
        </p:nvGrpSpPr>
        <p:grpSpPr>
          <a:xfrm>
            <a:off x="612720" y="0"/>
            <a:ext cx="1703520" cy="6858000"/>
            <a:chOff x="612720" y="0"/>
            <a:chExt cx="1703520" cy="6858000"/>
          </a:xfrm>
        </p:grpSpPr>
        <p:sp>
          <p:nvSpPr>
            <p:cNvPr id="105" name="Rectangle 16"/>
            <p:cNvSpPr/>
            <p:nvPr/>
          </p:nvSpPr>
          <p:spPr>
            <a:xfrm>
              <a:off x="757080" y="0"/>
              <a:ext cx="1559160" cy="6858000"/>
            </a:xfrm>
            <a:prstGeom prst="rect">
              <a:avLst/>
            </a:prstGeom>
            <a:solidFill>
              <a:srgbClr val="fff3f3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17"/>
            <p:cNvSpPr/>
            <p:nvPr/>
          </p:nvSpPr>
          <p:spPr>
            <a:xfrm>
              <a:off x="612720" y="0"/>
              <a:ext cx="88920" cy="6858000"/>
            </a:xfrm>
            <a:prstGeom prst="rect">
              <a:avLst/>
            </a:prstGeom>
            <a:solidFill>
              <a:srgbClr val="fff3f3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Rectangle 18"/>
          <p:cNvSpPr/>
          <p:nvPr/>
        </p:nvSpPr>
        <p:spPr>
          <a:xfrm>
            <a:off x="0" y="434880"/>
            <a:ext cx="9144000" cy="36036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6"/>
          <p:cNvSpPr/>
          <p:nvPr/>
        </p:nvSpPr>
        <p:spPr>
          <a:xfrm>
            <a:off x="612720" y="469800"/>
            <a:ext cx="85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1400" spc="-1" strike="noStrike">
                <a:solidFill>
                  <a:srgbClr val="eee0de"/>
                </a:solidFill>
                <a:latin typeface="Arial"/>
              </a:rPr>
              <a:t>ВОЛИНСЬКА ОБЛАСНА ДЕРЖАВНА АДМІНІСТРАЦІ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7" descr="Gerb-Vol-2011-01-sm"/>
          <p:cNvPicPr/>
          <p:nvPr/>
        </p:nvPicPr>
        <p:blipFill>
          <a:blip r:embed="rId3"/>
          <a:stretch/>
        </p:blipFill>
        <p:spPr>
          <a:xfrm>
            <a:off x="8047080" y="349200"/>
            <a:ext cx="527040" cy="5828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5" descr="Tryzub-00-(postanova)-sm"/>
          <p:cNvPicPr/>
          <p:nvPr/>
        </p:nvPicPr>
        <p:blipFill>
          <a:blip r:embed="rId4"/>
          <a:stretch/>
        </p:blipFill>
        <p:spPr>
          <a:xfrm>
            <a:off x="1017720" y="368280"/>
            <a:ext cx="439560" cy="6127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907920"/>
            <a:ext cx="82296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60e06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560e0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0680" indent="-220680">
              <a:spcBef>
                <a:spcPts val="425"/>
              </a:spcBef>
              <a:buClr>
                <a:srgbClr val="cc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24624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677880" indent="-182520">
              <a:spcBef>
                <a:spcPts val="425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898560" indent="-19692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1104840" indent="-174600">
              <a:spcBef>
                <a:spcPts val="4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1104840" indent="-174600">
              <a:spcBef>
                <a:spcPts val="4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1104840" indent="-174600">
              <a:spcBef>
                <a:spcPts val="4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EA5D2-FDAD-4E66-8B31-FBE7B9D6FC15}" type="slidenum">
              <a:rPr b="0" lang="uk-UA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2" descr="Polosa-right-(01)"/>
          <p:cNvPicPr/>
          <p:nvPr/>
        </p:nvPicPr>
        <p:blipFill>
          <a:blip r:embed="rId2"/>
          <a:stretch/>
        </p:blipFill>
        <p:spPr>
          <a:xfrm>
            <a:off x="5705640" y="4680"/>
            <a:ext cx="3438360" cy="6853320"/>
          </a:xfrm>
          <a:prstGeom prst="rect">
            <a:avLst/>
          </a:prstGeom>
          <a:ln w="0">
            <a:noFill/>
          </a:ln>
        </p:spPr>
      </p:pic>
      <p:grpSp>
        <p:nvGrpSpPr>
          <p:cNvPr id="153" name="Group 25"/>
          <p:cNvGrpSpPr/>
          <p:nvPr/>
        </p:nvGrpSpPr>
        <p:grpSpPr>
          <a:xfrm>
            <a:off x="612720" y="0"/>
            <a:ext cx="1703520" cy="6858000"/>
            <a:chOff x="612720" y="0"/>
            <a:chExt cx="1703520" cy="6858000"/>
          </a:xfrm>
        </p:grpSpPr>
        <p:sp>
          <p:nvSpPr>
            <p:cNvPr id="154" name="Rectangle 16"/>
            <p:cNvSpPr/>
            <p:nvPr/>
          </p:nvSpPr>
          <p:spPr>
            <a:xfrm>
              <a:off x="757080" y="0"/>
              <a:ext cx="1559160" cy="6858000"/>
            </a:xfrm>
            <a:prstGeom prst="rect">
              <a:avLst/>
            </a:prstGeom>
            <a:solidFill>
              <a:srgbClr val="fff3f3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17"/>
            <p:cNvSpPr/>
            <p:nvPr/>
          </p:nvSpPr>
          <p:spPr>
            <a:xfrm>
              <a:off x="612720" y="0"/>
              <a:ext cx="88920" cy="6858000"/>
            </a:xfrm>
            <a:prstGeom prst="rect">
              <a:avLst/>
            </a:prstGeom>
            <a:solidFill>
              <a:srgbClr val="fff3f3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Rectangle 18"/>
          <p:cNvSpPr/>
          <p:nvPr/>
        </p:nvSpPr>
        <p:spPr>
          <a:xfrm>
            <a:off x="0" y="434880"/>
            <a:ext cx="9144000" cy="36036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26"/>
          <p:cNvSpPr/>
          <p:nvPr/>
        </p:nvSpPr>
        <p:spPr>
          <a:xfrm>
            <a:off x="612720" y="469800"/>
            <a:ext cx="85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1400" spc="-1" strike="noStrike">
                <a:solidFill>
                  <a:srgbClr val="eee0de"/>
                </a:solidFill>
                <a:latin typeface="Arial"/>
              </a:rPr>
              <a:t>ВОЛИНСЬКА ОБЛАСНА ДЕРЖАВНА АДМІНІСТРАЦІ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27" descr="Gerb-Vol-2011-01-sm"/>
          <p:cNvPicPr/>
          <p:nvPr/>
        </p:nvPicPr>
        <p:blipFill>
          <a:blip r:embed="rId3"/>
          <a:stretch/>
        </p:blipFill>
        <p:spPr>
          <a:xfrm>
            <a:off x="8047080" y="349200"/>
            <a:ext cx="527040" cy="5828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35" descr="Tryzub-00-(postanova)-sm"/>
          <p:cNvPicPr/>
          <p:nvPr/>
        </p:nvPicPr>
        <p:blipFill>
          <a:blip r:embed="rId4"/>
          <a:stretch/>
        </p:blipFill>
        <p:spPr>
          <a:xfrm>
            <a:off x="1017720" y="368280"/>
            <a:ext cx="439560" cy="6127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907920"/>
            <a:ext cx="82296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60e06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560e0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0680" indent="-220680">
              <a:spcBef>
                <a:spcPts val="425"/>
              </a:spcBef>
              <a:buClr>
                <a:srgbClr val="cc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24624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677880" indent="-182520">
              <a:spcBef>
                <a:spcPts val="425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898560" indent="-19692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1104840" indent="-174600">
              <a:spcBef>
                <a:spcPts val="4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1104840" indent="-174600">
              <a:spcBef>
                <a:spcPts val="4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1104840" indent="-174600">
              <a:spcBef>
                <a:spcPts val="4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dt" idx="4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35321-D86A-4F80-BA08-727DF43376E8}" type="slidenum">
              <a:rPr b="0" lang="uk-UA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ftr" idx="6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907920"/>
            <a:ext cx="8229600" cy="5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1" lang="en-US" sz="1800" spc="-1" strike="noStrike">
              <a:solidFill>
                <a:srgbClr val="560e06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228240" y="175248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0680" indent="-220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13f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2"/>
          <p:cNvSpPr/>
          <p:nvPr/>
        </p:nvSpPr>
        <p:spPr>
          <a:xfrm>
            <a:off x="1295280" y="1600200"/>
            <a:ext cx="6858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560e06"/>
                </a:solidFill>
                <a:latin typeface="Arial"/>
              </a:rPr>
              <a:t>Дорожня карт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3"/>
          <p:cNvSpPr/>
          <p:nvPr/>
        </p:nvSpPr>
        <p:spPr>
          <a:xfrm>
            <a:off x="533520" y="3124080"/>
            <a:ext cx="88390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0680" indent="-2206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60e06"/>
                </a:solidFill>
                <a:latin typeface="Arial"/>
              </a:rPr>
              <a:t>отримання суб'єктами господарювання державної підтримки, передбаченої законодавством України, для реалізації інвестиційних проектів у пріоритетни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0680" indent="-2206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60e06"/>
                </a:solidFill>
                <a:latin typeface="Arial"/>
              </a:rPr>
              <a:t>галузях економі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0680" indent="-2206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0680" indent="-2206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907920"/>
            <a:ext cx="8229600" cy="5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60e06"/>
                </a:solidFill>
                <a:latin typeface="Arial"/>
              </a:rPr>
              <a:t>Механізм відбору, схвалення та реєстрації інвестиційних проектів у пріоритетних галузях економіки</a:t>
            </a:r>
            <a:endParaRPr b="1" lang="en-US" sz="2000" spc="-1" strike="noStrike">
              <a:solidFill>
                <a:srgbClr val="560e06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228240" y="1294920"/>
            <a:ext cx="8915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56c05"/>
                </a:solidFill>
                <a:latin typeface="Arial"/>
              </a:rPr>
              <a:t>Етап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 u="sng">
                <a:solidFill>
                  <a:srgbClr val="000000"/>
                </a:solidFill>
                <a:uFillTx/>
                <a:latin typeface="Arial"/>
              </a:rPr>
              <a:t>Після схвалення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Кабінетом Міністрів України інвестиційних проектів у пріоритетних галузях економіки </a:t>
            </a:r>
            <a:r>
              <a:rPr b="1" lang="uk-UA" sz="2000" spc="-1" strike="noStrike" u="sng">
                <a:solidFill>
                  <a:srgbClr val="000000"/>
                </a:solidFill>
                <a:uFillTx/>
                <a:latin typeface="Arial"/>
              </a:rPr>
              <a:t>Мінекономрозвитку </a:t>
            </a:r>
            <a:r>
              <a:rPr b="1" lang="uk-UA" sz="2000" spc="-1" strike="noStrike">
                <a:solidFill>
                  <a:srgbClr val="0713f9"/>
                </a:solidFill>
                <a:latin typeface="Arial"/>
              </a:rPr>
              <a:t>протягом п’яти робочих днів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2000" spc="-1" strike="noStrike" u="sng">
                <a:solidFill>
                  <a:srgbClr val="000000"/>
                </a:solidFill>
                <a:uFillTx/>
                <a:latin typeface="Arial"/>
              </a:rPr>
              <a:t>здійснює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їх </a:t>
            </a:r>
            <a:r>
              <a:rPr b="1" lang="uk-UA" sz="2000" spc="-1" strike="noStrike" u="sng">
                <a:solidFill>
                  <a:srgbClr val="000000"/>
                </a:solidFill>
                <a:uFillTx/>
                <a:latin typeface="Arial"/>
              </a:rPr>
              <a:t>державну реєстрацію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шляхом внесення відомостей про ці проекти до Державного реєстру інвестиційних проектів у пріоритетних галузях економіки, який розміщується на офіційному веб-сайті Мінекономрозвит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Після державної реєстрації інвестиційних проектів Мінекономрозвитку повідомляє </a:t>
            </a:r>
            <a:r>
              <a:rPr b="1" lang="uk-UA" sz="2000" spc="-1" strike="noStrike">
                <a:solidFill>
                  <a:srgbClr val="0713f9"/>
                </a:solidFill>
                <a:latin typeface="Arial"/>
              </a:rPr>
              <a:t>у дводенний строк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облдержадміністрації  про схвалення Кабінетом Міністрів України зазначених проектів та їх державну реєстрацію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Внесення відомостей до Реєстру здійснюється шляхом заповнення реєстраційної картки інвестиційного проекту за затвердженою Мінекономрозвитку формою (Наказ від 12.12.2013 № 1474 "Про затвердження форми реєстраційної картки інвестиційного проекту у пріоритетній галузі економіки";), що містить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cc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загальні відомості про суб’єкта господарювання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cc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показники-індикатори інвестиційного проекту після реєстрації (загальна кошторисна вартість проекту; кількість створених нових робочих місць для працівників, які безпосередньо задіяні у виробничих процесах; середня заробітна плата працівників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907920"/>
            <a:ext cx="8229600" cy="5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60e06"/>
                </a:solidFill>
                <a:latin typeface="Arial"/>
              </a:rPr>
              <a:t>Отримання державної підтримки для реалізації інвестиційних проектів у пріоритетних галузях економіки</a:t>
            </a:r>
            <a:endParaRPr b="1" lang="en-US" sz="1600" spc="-1" strike="noStrike">
              <a:solidFill>
                <a:srgbClr val="560e06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18160" indent="-453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713f9"/>
                </a:solidFill>
                <a:latin typeface="Arial"/>
              </a:rPr>
              <a:t>Після схвалення Кабінетом Міністрів України </a:t>
            </a:r>
            <a:r>
              <a:rPr b="0" lang="en-US" sz="1800" spc="-1" strike="noStrike">
                <a:solidFill>
                  <a:srgbClr val="0713f9"/>
                </a:solidFill>
                <a:latin typeface="Arial"/>
              </a:rPr>
              <a:t> інвестиційного </a:t>
            </a:r>
            <a:br>
              <a:rPr sz="1800"/>
            </a:br>
            <a:r>
              <a:rPr b="0" lang="en-US" sz="1800" spc="-1" strike="noStrike">
                <a:solidFill>
                  <a:srgbClr val="0713f9"/>
                </a:solidFill>
                <a:latin typeface="Arial"/>
              </a:rPr>
              <a:t>проекту суб’єкт господарювання </a:t>
            </a:r>
            <a:r>
              <a:rPr b="1" lang="en-US" sz="1800" spc="-1" strike="noStrike">
                <a:solidFill>
                  <a:srgbClr val="0713f9"/>
                </a:solidFill>
                <a:latin typeface="Arial"/>
              </a:rPr>
              <a:t>набуває право на отримання державної підтримки</a:t>
            </a:r>
            <a:r>
              <a:rPr b="0" lang="en-US" sz="1800" spc="-1" strike="noStrike">
                <a:solidFill>
                  <a:srgbClr val="0713f9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8160" indent="-4536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18160" indent="-4536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податкування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прибутк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отриманого від реалізації інвестиційних проектів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8160" indent="-453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До 01.01.2018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 %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8160" indent="-453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З 01.01.2018 до 01.01.2023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%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8160" indent="-453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З 01.01.2023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 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8160" indent="-453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8160" indent="-4536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*(звичайна ставка податку на прибуток з 1 січня 2013 року - 19%, з 1 січня 2014 року - 16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8160" indent="-4536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8160" indent="-453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713f9"/>
                </a:solidFill>
                <a:latin typeface="Arial"/>
              </a:rPr>
              <a:t>У разі затвердження Кабінетом Міністрів України порядку ввезення, переліку та обсягів товарів, </a:t>
            </a:r>
            <a:r>
              <a:rPr b="0" lang="en-US" sz="1800" spc="-1" strike="noStrike">
                <a:solidFill>
                  <a:srgbClr val="0713f9"/>
                </a:solidFill>
                <a:latin typeface="Arial"/>
              </a:rPr>
              <a:t>що ввозяться для реалізації інвестиційного проекту</a:t>
            </a:r>
            <a:r>
              <a:rPr b="1" lang="en-US" sz="1800" spc="-1" strike="noStrike">
                <a:solidFill>
                  <a:srgbClr val="0713f9"/>
                </a:solidFill>
                <a:latin typeface="Arial"/>
              </a:rPr>
              <a:t> одночасно із схваленням такого проекту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8160" indent="-4536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адання до 31.12.2022 включно митному органу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одаткового вексел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на суму податкового зобов'язання з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ДВ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строком на 60 днів для ввезення в Україну устаткування (обладнання)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та комплектуючих виробів до нього, що звільняються від оподаткування ввізним мит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8160" indent="-4536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8160" indent="-4536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звільнення до 01.01.2018 від оподаткування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ввізним мито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устаткування (обладнання)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та комплектуючих виробів до нього за умови, що зазначені товар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8160" indent="-453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а) не є підакцизним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8160" indent="-453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б) виготовлені не більше трьох років до моменту державної реєстрації інвестиційного проекту та не були у використанні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8160" indent="-453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в) не виробляються в Україні та не мають аналогів в Україн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457200" y="2514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0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713f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713f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713f9"/>
                </a:solidFill>
                <a:latin typeface="Arial"/>
              </a:rPr>
              <a:t>У разі виявлення суб’єктом господарювання бажання</a:t>
            </a:r>
            <a:r>
              <a:rPr b="1" lang="en-US" sz="1800" spc="-1" strike="noStrike">
                <a:solidFill>
                  <a:srgbClr val="0713f9"/>
                </a:solidFill>
                <a:latin typeface="Arial"/>
              </a:rPr>
              <a:t> отримати державну підтримку </a:t>
            </a:r>
            <a:r>
              <a:rPr b="0" lang="en-US" sz="1800" spc="-1" strike="noStrike">
                <a:solidFill>
                  <a:srgbClr val="0713f9"/>
                </a:solidFill>
                <a:latin typeface="Arial"/>
              </a:rPr>
              <a:t>для реалізації інвестиційного проекту у пріоритетній галузі економіки</a:t>
            </a:r>
            <a:r>
              <a:rPr b="1" lang="en-US" sz="1800" spc="-1" strike="noStrike">
                <a:solidFill>
                  <a:srgbClr val="0713f9"/>
                </a:solidFill>
                <a:latin typeface="Arial"/>
              </a:rPr>
              <a:t> за рахунок коштів державного чи місцевого бюджетів, </a:t>
            </a:r>
            <a:r>
              <a:rPr b="0" lang="en-US" sz="1800" spc="-1" strike="noStrike">
                <a:solidFill>
                  <a:srgbClr val="0713f9"/>
                </a:solidFill>
                <a:latin typeface="Arial"/>
              </a:rPr>
              <a:t>відповідний</a:t>
            </a:r>
            <a:r>
              <a:rPr b="1" lang="en-US" sz="1800" spc="-1" strike="noStrike">
                <a:solidFill>
                  <a:srgbClr val="0713f9"/>
                </a:solidFill>
                <a:latin typeface="Arial"/>
              </a:rPr>
              <a:t> проект повинен бути включений також до Державного реєстру інвестиційних проектів та проектних (інвестиційних) пропозицій </a:t>
            </a:r>
            <a:r>
              <a:rPr b="0" lang="en-US" sz="1800" spc="-1" strike="noStrike">
                <a:solidFill>
                  <a:srgbClr val="0713f9"/>
                </a:solidFill>
                <a:latin typeface="Arial"/>
              </a:rPr>
              <a:t>у порядку, встановленому статтею 12-2 Закону України "Про інвестиційну діяльність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0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2"/>
          <p:cNvSpPr/>
          <p:nvPr/>
        </p:nvSpPr>
        <p:spPr>
          <a:xfrm>
            <a:off x="380880" y="1143000"/>
            <a:ext cx="822960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60e06"/>
                </a:solidFill>
                <a:latin typeface="Arial"/>
              </a:rPr>
              <a:t>Отримання державної підтримки для реалізації інвестиційних проектів у пріоритетних галузях економі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560e06"/>
                </a:solidFill>
                <a:latin typeface="Arial"/>
              </a:rPr>
              <a:t>Нормативно-правова основа стимулювання інвестиційної діяльності у пріоритетних галузях економіки з метою створення нових робочих місць</a:t>
            </a:r>
            <a:endParaRPr b="1" lang="en-US" sz="1800" spc="-1" strike="noStrike">
              <a:solidFill>
                <a:srgbClr val="560e06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02680" indent="-202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713f9"/>
                </a:solidFill>
                <a:latin typeface="Arial"/>
              </a:rPr>
              <a:t>	</a:t>
            </a:r>
            <a:r>
              <a:rPr b="1" lang="uk-UA" sz="1800" spc="-1" strike="noStrike">
                <a:solidFill>
                  <a:srgbClr val="0713f9"/>
                </a:solidFill>
                <a:latin typeface="Arial"/>
              </a:rPr>
              <a:t>Закон України</a:t>
            </a:r>
            <a:r>
              <a:rPr b="0" lang="uk-UA" sz="1800" spc="-1" strike="noStrike">
                <a:solidFill>
                  <a:srgbClr val="0713f9"/>
                </a:solidFill>
                <a:latin typeface="Arial"/>
              </a:rPr>
              <a:t> “Про стимулювання інвестиційної діяльності у пріоритетних галузях економіки з метою створення нових робочих місць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2680" indent="-202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2680" indent="-202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713f9"/>
                </a:solidFill>
                <a:latin typeface="Arial"/>
              </a:rPr>
              <a:t>	</a:t>
            </a:r>
            <a:r>
              <a:rPr b="1" lang="uk-UA" sz="1800" spc="-1" strike="noStrike">
                <a:solidFill>
                  <a:srgbClr val="0713f9"/>
                </a:solidFill>
                <a:latin typeface="Arial"/>
              </a:rPr>
              <a:t>Постанова Кабінету Міністрів України</a:t>
            </a:r>
            <a:r>
              <a:rPr b="0" lang="uk-UA" sz="1800" spc="-1" strike="noStrike">
                <a:solidFill>
                  <a:srgbClr val="0713f9"/>
                </a:solidFill>
                <a:latin typeface="Arial"/>
              </a:rPr>
              <a:t> </a:t>
            </a:r>
            <a:br>
              <a:rPr sz="1800"/>
            </a:br>
            <a:r>
              <a:rPr b="0" lang="uk-UA" sz="1800" spc="-1" strike="noStrike">
                <a:solidFill>
                  <a:srgbClr val="0713f9"/>
                </a:solidFill>
                <a:latin typeface="Arial"/>
              </a:rPr>
              <a:t>від 14.08.2013 </a:t>
            </a:r>
            <a:r>
              <a:rPr b="1" lang="uk-UA" sz="1800" spc="-1" strike="noStrike">
                <a:solidFill>
                  <a:srgbClr val="0713f9"/>
                </a:solidFill>
                <a:latin typeface="Arial"/>
              </a:rPr>
              <a:t>№ 715</a:t>
            </a:r>
            <a:r>
              <a:rPr b="0" lang="uk-UA" sz="1800" spc="-1" strike="noStrike">
                <a:solidFill>
                  <a:srgbClr val="0713f9"/>
                </a:solidFill>
                <a:latin typeface="Arial"/>
              </a:rPr>
              <a:t> “Про затвердження </a:t>
            </a:r>
            <a:br>
              <a:rPr sz="1800"/>
            </a:br>
            <a:r>
              <a:rPr b="0" lang="uk-UA" sz="1800" spc="-1" strike="noStrike">
                <a:solidFill>
                  <a:srgbClr val="0713f9"/>
                </a:solidFill>
                <a:latin typeface="Arial"/>
              </a:rPr>
              <a:t>Порядку відбору, схвалення і реєстрації інвестиційних проектів у пріоритетних галузях економіки та вимог до таких проектів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2680" indent="-202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2680" indent="-202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713f9"/>
                </a:solidFill>
                <a:latin typeface="Arial"/>
              </a:rPr>
              <a:t>	</a:t>
            </a:r>
            <a:r>
              <a:rPr b="1" lang="uk-UA" sz="1800" spc="-1" strike="noStrike">
                <a:solidFill>
                  <a:srgbClr val="0713f9"/>
                </a:solidFill>
                <a:latin typeface="Arial"/>
              </a:rPr>
              <a:t>Розпорядження Кабінету Міністрів України</a:t>
            </a:r>
            <a:r>
              <a:rPr b="0" lang="uk-UA" sz="1800" spc="-1" strike="noStrike">
                <a:solidFill>
                  <a:srgbClr val="0713f9"/>
                </a:solidFill>
                <a:latin typeface="Arial"/>
              </a:rPr>
              <a:t> </a:t>
            </a:r>
            <a:br>
              <a:rPr sz="1800"/>
            </a:br>
            <a:r>
              <a:rPr b="0" lang="uk-UA" sz="1800" spc="-1" strike="noStrike">
                <a:solidFill>
                  <a:srgbClr val="0713f9"/>
                </a:solidFill>
                <a:latin typeface="Arial"/>
              </a:rPr>
              <a:t>від 14.08.2013 </a:t>
            </a:r>
            <a:r>
              <a:rPr b="1" lang="uk-UA" sz="1800" spc="-1" strike="noStrike">
                <a:solidFill>
                  <a:srgbClr val="0713f9"/>
                </a:solidFill>
                <a:latin typeface="Arial"/>
              </a:rPr>
              <a:t>№ 843-р</a:t>
            </a:r>
            <a:r>
              <a:rPr b="0" lang="uk-UA" sz="1800" spc="-1" strike="noStrike">
                <a:solidFill>
                  <a:srgbClr val="0713f9"/>
                </a:solidFill>
                <a:latin typeface="Arial"/>
              </a:rPr>
              <a:t> “Про затвердження </a:t>
            </a:r>
            <a:br>
              <a:rPr sz="1800"/>
            </a:br>
            <a:r>
              <a:rPr b="0" lang="uk-UA" sz="1800" spc="-1" strike="noStrike">
                <a:solidFill>
                  <a:srgbClr val="0713f9"/>
                </a:solidFill>
                <a:latin typeface="Arial"/>
              </a:rPr>
              <a:t>переліку пріоритетних галузей економіки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2680" indent="-202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2680" indent="-202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713f9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713f9"/>
                </a:solidFill>
                <a:latin typeface="Arial"/>
              </a:rPr>
              <a:t>Накази </a:t>
            </a:r>
            <a:r>
              <a:rPr b="1" lang="uk-UA" sz="1800" spc="-1" strike="noStrike">
                <a:solidFill>
                  <a:srgbClr val="0713f9"/>
                </a:solidFill>
                <a:latin typeface="Arial"/>
              </a:rPr>
              <a:t>Мінекономрозвитку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2680" indent="-202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713f9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713f9"/>
                </a:solidFill>
                <a:latin typeface="Arial"/>
              </a:rPr>
              <a:t>від 12.12.2013 № 1475 "Про затвердження форми заяви для участі у відборі інвестиційних проектів у пріоритетних галузях економіки та інструкції щодо її заповнення“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2680" indent="-202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2680" indent="-202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713f9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713f9"/>
                </a:solidFill>
                <a:latin typeface="Arial"/>
              </a:rPr>
              <a:t>від 12.12.2013 № 1474 "Про затвердження форми реєстраційної карт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2680" indent="-202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713f9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713f9"/>
                </a:solidFill>
                <a:latin typeface="Arial"/>
              </a:rPr>
              <a:t>інвестиційного проекту у пріоритетній галузі економіки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600" cy="5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60e06"/>
                </a:solidFill>
                <a:latin typeface="Arial"/>
              </a:rPr>
              <a:t>Критерії відбору інвестиційних проектів у пріоритетних галузях економіки </a:t>
            </a:r>
            <a:endParaRPr b="1" lang="en-US" sz="2400" spc="-1" strike="noStrike">
              <a:solidFill>
                <a:srgbClr val="560e06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8088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0680" indent="-2206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200" spc="-1" strike="noStrike">
                <a:solidFill>
                  <a:srgbClr val="0713f9"/>
                </a:solidFill>
                <a:latin typeface="Arial"/>
              </a:rPr>
              <a:t>Для отримання державної підтримки інвестиційний проект </a:t>
            </a:r>
            <a:r>
              <a:rPr b="1" lang="uk-UA" sz="2200" spc="-1" strike="noStrike">
                <a:solidFill>
                  <a:srgbClr val="0713f9"/>
                </a:solidFill>
                <a:latin typeface="Arial"/>
              </a:rPr>
              <a:t>має відповідати таким критеріям</a:t>
            </a:r>
            <a:r>
              <a:rPr b="0" lang="uk-UA" sz="2200" spc="-1" strike="noStrike">
                <a:solidFill>
                  <a:srgbClr val="0713f9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0680" indent="-2206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0680" indent="-2206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загальна кошторисна вартість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проекту має перевищувати суму, еквівалентну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2462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uk-UA" sz="1600" spc="-1" strike="noStrike">
                <a:solidFill>
                  <a:srgbClr val="0713f9"/>
                </a:solidFill>
                <a:latin typeface="Arial"/>
              </a:rPr>
              <a:t>3 мільйонам євро</a:t>
            </a:r>
            <a:r>
              <a:rPr b="0" i="1" lang="uk-UA" sz="1600" spc="-1" strike="noStrike">
                <a:solidFill>
                  <a:srgbClr val="000000"/>
                </a:solidFill>
                <a:latin typeface="Arial"/>
              </a:rPr>
              <a:t> - для суб’єктів великого підприємниц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2462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uk-UA" sz="1600" spc="-1" strike="noStrike">
                <a:solidFill>
                  <a:srgbClr val="0713f9"/>
                </a:solidFill>
                <a:latin typeface="Arial"/>
              </a:rPr>
              <a:t>1 мільйону євро</a:t>
            </a:r>
            <a:r>
              <a:rPr b="0" i="1" lang="uk-UA" sz="1600" spc="-1" strike="noStrike">
                <a:solidFill>
                  <a:srgbClr val="000000"/>
                </a:solidFill>
                <a:latin typeface="Arial"/>
              </a:rPr>
              <a:t> - для суб’єктів середнього підприємниц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2462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uk-UA" sz="1600" spc="-1" strike="noStrike">
                <a:solidFill>
                  <a:srgbClr val="0713f9"/>
                </a:solidFill>
                <a:latin typeface="Arial"/>
              </a:rPr>
              <a:t>500 тисячам євро</a:t>
            </a:r>
            <a:r>
              <a:rPr b="0" i="1" lang="uk-UA" sz="1600" spc="-1" strike="noStrike">
                <a:solidFill>
                  <a:srgbClr val="000000"/>
                </a:solidFill>
                <a:latin typeface="Arial"/>
              </a:rPr>
              <a:t> - для суб’єктів малого підприємниц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0680" indent="-220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0680" indent="-2206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кількість створених нових робочих місць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для працівників, які безпосередньо задіяні у виробничих процесах, має перевищуват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2462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uk-UA" sz="1600" spc="-1" strike="noStrike">
                <a:solidFill>
                  <a:srgbClr val="0713f9"/>
                </a:solidFill>
                <a:latin typeface="Arial"/>
              </a:rPr>
              <a:t>150</a:t>
            </a:r>
            <a:r>
              <a:rPr b="0" i="1" lang="uk-UA" sz="1600" spc="-1" strike="noStrike">
                <a:solidFill>
                  <a:srgbClr val="000000"/>
                </a:solidFill>
                <a:latin typeface="Arial"/>
              </a:rPr>
              <a:t> - для суб’єктів великого підприємниц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2462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uk-UA" sz="1600" spc="-1" strike="noStrike">
                <a:solidFill>
                  <a:srgbClr val="0713f9"/>
                </a:solidFill>
                <a:latin typeface="Arial"/>
              </a:rPr>
              <a:t>50</a:t>
            </a:r>
            <a:r>
              <a:rPr b="0" i="1" lang="uk-UA" sz="1600" spc="-1" strike="noStrike">
                <a:solidFill>
                  <a:srgbClr val="000000"/>
                </a:solidFill>
                <a:latin typeface="Arial"/>
              </a:rPr>
              <a:t> - для суб’єктів середнього підприємниц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2462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uk-UA" sz="1600" spc="-1" strike="noStrike">
                <a:solidFill>
                  <a:srgbClr val="0713f9"/>
                </a:solidFill>
                <a:latin typeface="Arial"/>
              </a:rPr>
              <a:t>25</a:t>
            </a:r>
            <a:r>
              <a:rPr b="0" i="1" lang="uk-UA" sz="1600" spc="-1" strike="noStrike">
                <a:solidFill>
                  <a:srgbClr val="000000"/>
                </a:solidFill>
                <a:latin typeface="Arial"/>
              </a:rPr>
              <a:t> - для суб’єктів малого підприємниц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0680" indent="-220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0680" indent="-2206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середня заробітна плата працівників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uk-UA" sz="1600" spc="-1" strike="noStrike">
                <a:solidFill>
                  <a:srgbClr val="000000"/>
                </a:solidFill>
                <a:latin typeface="Arial"/>
              </a:rPr>
              <a:t>має бути не менш як </a:t>
            </a:r>
            <a:br>
              <a:rPr sz="1600"/>
            </a:br>
            <a:r>
              <a:rPr b="0" i="1" lang="uk-UA" sz="1600" spc="-1" strike="noStrike">
                <a:solidFill>
                  <a:srgbClr val="0713f9"/>
                </a:solidFill>
                <a:latin typeface="Arial"/>
              </a:rPr>
              <a:t>у 2,5 раза вища за розмір мінімальної заробітної пла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0680" indent="-220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50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60e06"/>
                </a:solidFill>
                <a:latin typeface="Arial"/>
              </a:rPr>
              <a:t>ВИМОГИ до інвестиційних проектів у пріоритетних галузях економіки</a:t>
            </a:r>
            <a:endParaRPr b="1" lang="en-US" sz="2000" spc="-1" strike="noStrike">
              <a:solidFill>
                <a:srgbClr val="560e06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713f9"/>
                </a:solidFill>
                <a:latin typeface="Arial"/>
              </a:rPr>
              <a:t>Інвестиційні проекти у пріоритетних галузях економіки повинні відповідати таким вимога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656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реалізація проекту передбачається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- у пріоритетній галузі економіки, визначеній Кабінетом Міністрів Украї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- на новоствореному або діючому підприємстві, на якому буде проведено реконструкцію або модернізаці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656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656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реалізація проекту передбачає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- виділення окремого структурного підрозділу, на якому планується реалізація інвестиційного проект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- досягнення протягом двох років з дня державної реєстрації інвестиційного проекту у пріоритетній галузі економіки показників, установлених частиною другою статті 4 Закону України 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“Про стимулювання інвестиційної діяльності у пріоритетних галузях економіки з метою створення нових робочих місць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600" spc="-1" strike="noStrike">
                <a:solidFill>
                  <a:srgbClr val="000000"/>
                </a:solidFill>
                <a:latin typeface="Arial"/>
              </a:rPr>
              <a:t>(кошторисна вартість  від 0,5 до 3 млн.Євро, створення нових робочих місць більше 25-150, середня заробітна плата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не менше як у 2,5 раза перевищує розмір мінімальної заробітної плати</a:t>
            </a:r>
            <a:r>
              <a:rPr b="0" i="1" lang="uk-UA" sz="16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907920"/>
            <a:ext cx="8229600" cy="5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60e06"/>
                </a:solidFill>
                <a:latin typeface="Arial"/>
              </a:rPr>
              <a:t>ПЕРЕЛІК пріоритетних галузей економіки</a:t>
            </a:r>
            <a:endParaRPr b="1" lang="en-US" sz="2400" spc="-1" strike="noStrike">
              <a:solidFill>
                <a:srgbClr val="560e06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6840" y="1447920"/>
            <a:ext cx="85345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713f9"/>
                </a:solidFill>
                <a:latin typeface="Arial"/>
              </a:rPr>
              <a:t>(затверджено розпорядженням Кабінету Міністрів України від 14.08.2013 № 843-р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361800">
              <a:lnSpc>
                <a:spcPct val="80000"/>
              </a:lnSpc>
              <a:spcBef>
                <a:spcPts val="349"/>
              </a:spcBef>
              <a:buClr>
                <a:srgbClr val="f56c05"/>
              </a:buClr>
              <a:buSzPct val="135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Агропромисловий комплек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713f9"/>
                </a:solidFill>
                <a:latin typeface="Arial"/>
              </a:rPr>
              <a:t>виробництво, зберігання харчових продуктів, в тому числі дитячого харчування, </a:t>
            </a:r>
            <a:br>
              <a:rPr sz="1400"/>
            </a:br>
            <a:r>
              <a:rPr b="0" lang="en-US" sz="1400" spc="-1" strike="noStrike">
                <a:solidFill>
                  <a:srgbClr val="0713f9"/>
                </a:solidFill>
                <a:latin typeface="Arial"/>
              </a:rPr>
              <a:t>а також виробництво біопалива, з орієнтацією на імпортозаміщенн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361800">
              <a:lnSpc>
                <a:spcPct val="80000"/>
              </a:lnSpc>
              <a:spcBef>
                <a:spcPts val="349"/>
              </a:spcBef>
              <a:buClr>
                <a:srgbClr val="f56c05"/>
              </a:buClr>
              <a:buSzPct val="135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Житлово-комунальний комплекс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713f9"/>
                </a:solidFill>
                <a:latin typeface="Arial"/>
              </a:rPr>
              <a:t>створення об’єктів поводження з відходами (побутовими, промисловими та відходами, </a:t>
            </a:r>
            <a:br>
              <a:rPr sz="1400"/>
            </a:br>
            <a:r>
              <a:rPr b="0" lang="en-US" sz="1400" spc="-1" strike="noStrike">
                <a:solidFill>
                  <a:srgbClr val="0713f9"/>
                </a:solidFill>
                <a:latin typeface="Arial"/>
              </a:rPr>
              <a:t>які утворилися в результаті добування та перероблення корисних копалин і виробництва електричної та теплової енергії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713f9"/>
                </a:solidFill>
                <a:latin typeface="Arial"/>
              </a:rPr>
              <a:t>будівництво, реконструкція і технічне переоснащення у сфері теплопостачання, централізованого водопостачання та водовідведенн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361800">
              <a:lnSpc>
                <a:spcPct val="80000"/>
              </a:lnSpc>
              <a:spcBef>
                <a:spcPts val="349"/>
              </a:spcBef>
              <a:buClr>
                <a:srgbClr val="f56c05"/>
              </a:buClr>
              <a:buSzPct val="135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Машинобудівний комплекс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713f9"/>
                </a:solidFill>
                <a:latin typeface="Arial"/>
              </a:rPr>
              <a:t>виробництво нових та імпортозаміщуючих видів комп’ютерів, електронної та оптичної </a:t>
            </a:r>
            <a:br>
              <a:rPr sz="1400"/>
            </a:br>
            <a:r>
              <a:rPr b="0" lang="en-US" sz="1400" spc="-1" strike="noStrike">
                <a:solidFill>
                  <a:srgbClr val="0713f9"/>
                </a:solidFill>
                <a:latin typeface="Arial"/>
              </a:rPr>
              <a:t>продукції, машин і устатковання, електричного устатковання, автотранспортних та інших транспортних засобі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361800">
              <a:lnSpc>
                <a:spcPct val="80000"/>
              </a:lnSpc>
              <a:spcBef>
                <a:spcPts val="349"/>
              </a:spcBef>
              <a:buClr>
                <a:srgbClr val="f56c05"/>
              </a:buClr>
              <a:buSzPct val="135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Транспортна інфраструктур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713f9"/>
                </a:solidFill>
                <a:latin typeface="Arial"/>
              </a:rPr>
              <a:t>будівництво, реконструкція і технічне переоснащення у сфері транспортної інфраструктур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361800">
              <a:lnSpc>
                <a:spcPct val="80000"/>
              </a:lnSpc>
              <a:spcBef>
                <a:spcPts val="349"/>
              </a:spcBef>
              <a:buClr>
                <a:srgbClr val="f56c05"/>
              </a:buClr>
              <a:buSzPct val="135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Курортно-рекреаційна сфера і туриз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713f9"/>
                </a:solidFill>
                <a:latin typeface="Arial"/>
              </a:rPr>
              <a:t>будівництво курортно-рекреаційних об’єктів та об’єктів туристичної інфраструктур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361800">
              <a:lnSpc>
                <a:spcPct val="80000"/>
              </a:lnSpc>
              <a:spcBef>
                <a:spcPts val="349"/>
              </a:spcBef>
              <a:buClr>
                <a:srgbClr val="f56c05"/>
              </a:buClr>
              <a:buSzPct val="135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Переробна промислові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713f9"/>
                </a:solidFill>
                <a:latin typeface="Arial"/>
              </a:rPr>
              <a:t>імпортозаміщуюче металургійне виробництв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907920"/>
            <a:ext cx="8229600" cy="5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60e06"/>
                </a:solidFill>
                <a:latin typeface="Arial"/>
              </a:rPr>
              <a:t>Механізм відбору, схвалення та реєстрації інвестиційних проектів у пріоритетних галузях економіки</a:t>
            </a:r>
            <a:endParaRPr b="1" lang="en-US" sz="2000" spc="-1" strike="noStrike">
              <a:solidFill>
                <a:srgbClr val="560e06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228240" y="990720"/>
            <a:ext cx="8915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43720" indent="-243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56c05"/>
                </a:solidFill>
                <a:latin typeface="Arial"/>
              </a:rPr>
              <a:t>Етап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3720" indent="-2437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 u="sng">
                <a:solidFill>
                  <a:srgbClr val="000000"/>
                </a:solidFill>
                <a:uFillTx/>
                <a:latin typeface="Arial"/>
              </a:rPr>
              <a:t>Суб’єкти господарювання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, що мають намір взяти участь у відборі інвестиційних проектів у пріоритетних галузях економіки </a:t>
            </a:r>
            <a:r>
              <a:rPr b="1" lang="uk-UA" sz="1600" spc="-1" strike="noStrike" u="sng">
                <a:solidFill>
                  <a:srgbClr val="000000"/>
                </a:solidFill>
                <a:uFillTx/>
                <a:latin typeface="Arial"/>
              </a:rPr>
              <a:t>подають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 обласним, державним адміністраціям </a:t>
            </a:r>
            <a:r>
              <a:rPr b="1" lang="uk-UA" sz="1600" spc="-1" strike="noStrike" u="sng">
                <a:solidFill>
                  <a:srgbClr val="000000"/>
                </a:solidFill>
                <a:uFillTx/>
                <a:latin typeface="Arial"/>
              </a:rPr>
              <a:t>заяву разом із відповідними документами (п.2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600" spc="-1" strike="noStrike">
                <a:solidFill>
                  <a:srgbClr val="0713f9"/>
                </a:solidFill>
                <a:latin typeface="Arial"/>
              </a:rPr>
              <a:t>Порядку відбору, схвалення і реєстрації інвестиційних проектів у пріоритетних галузях економіки та вимог до таких проектів”</a:t>
            </a:r>
            <a:r>
              <a:rPr b="1" lang="uk-UA" sz="1600" spc="-1" strike="noStrike">
                <a:solidFill>
                  <a:srgbClr val="0713f9"/>
                </a:solidFill>
                <a:latin typeface="Arial"/>
              </a:rPr>
              <a:t> (затвердженого постановою Кабінету Міністрів України</a:t>
            </a:r>
            <a:r>
              <a:rPr b="0" lang="uk-UA" sz="1600" spc="-1" strike="noStrike">
                <a:solidFill>
                  <a:srgbClr val="0713f9"/>
                </a:solidFill>
                <a:latin typeface="Arial"/>
              </a:rPr>
              <a:t> від 14.08.2013 </a:t>
            </a:r>
            <a:r>
              <a:rPr b="1" lang="uk-UA" sz="1600" spc="-1" strike="noStrike">
                <a:solidFill>
                  <a:srgbClr val="0713f9"/>
                </a:solidFill>
                <a:latin typeface="Arial"/>
              </a:rPr>
              <a:t>№ 715</a:t>
            </a:r>
            <a:r>
              <a:rPr b="0" lang="uk-UA" sz="1600" spc="-1" strike="noStrike">
                <a:solidFill>
                  <a:srgbClr val="0713f9"/>
                </a:solidFill>
                <a:latin typeface="Arial"/>
              </a:rPr>
              <a:t> )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3720" indent="-243720">
              <a:spcBef>
                <a:spcPts val="349"/>
              </a:spcBef>
              <a:buClr>
                <a:srgbClr val="cc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исновки незалежних експертних організацій (за наявності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720" indent="-243720">
              <a:spcBef>
                <a:spcPts val="349"/>
              </a:spcBef>
              <a:buClr>
                <a:srgbClr val="cc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пія інвестиційного проекту, що прошита, пронумерована, засвідчена підписом уповноваженої особи суб’єкта господарювання, а також скріплена печаткою (для юридичної особи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) (в</a:t>
            </a:r>
            <a:r>
              <a:rPr b="0" i="1" lang="uk-UA" sz="1400" spc="-1" strike="noStrike">
                <a:solidFill>
                  <a:srgbClr val="000000"/>
                </a:solidFill>
                <a:latin typeface="Arial"/>
              </a:rPr>
              <a:t> законі не прописано, але згідно з Дорожньою картою МЕ проект готується відповідно до наказу Мінекономрозвитку від 19.06.2012 № 724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720" indent="-243720">
              <a:spcBef>
                <a:spcPts val="349"/>
              </a:spcBef>
              <a:buClr>
                <a:srgbClr val="cc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овідка про відсутність у суб’єкта господарювання простроченої заборгованості із сплати податків і зборів (обов’язкових платежів)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720" indent="-243720">
              <a:spcBef>
                <a:spcPts val="349"/>
              </a:spcBef>
              <a:buClr>
                <a:srgbClr val="cc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окумент про відсутність стосовно суб’єкта господарювання порушеної справи про банкрутство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720" indent="-243720">
              <a:spcBef>
                <a:spcPts val="349"/>
              </a:spcBef>
              <a:buClr>
                <a:srgbClr val="cc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овідка про відсутність у суб’єкта господарювання простроченої заборгованості із сплати єдиного внеску на загальнообов’язкове, державне соціальне страхування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720" indent="-243720">
              <a:spcBef>
                <a:spcPts val="349"/>
              </a:spcBef>
              <a:buClr>
                <a:srgbClr val="cc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иписка з Єдиного державного реєстру юридичних осіб та фізичних осіб – підприємців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720" indent="-243720">
              <a:spcBef>
                <a:spcPts val="349"/>
              </a:spcBef>
              <a:buClr>
                <a:srgbClr val="cc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форма заяви для участі у відборі, а також інструкція щодо її заповнення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затверджені наказом Мінекономрозвитку від 12.12.2013 № 1475 "Про затвердження форми заяви для участі у відборі інвестиційних проектів у пріоритетних галузях економіки та інструкції щодо її заповнення"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720" indent="-2437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ідповідальність за повноту і достовірність відомостей, зазначених у документах, покладається на суб’єктів господарюванн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720" indent="-243720">
              <a:spcBef>
                <a:spcPts val="349"/>
              </a:spcBef>
              <a:buClr>
                <a:srgbClr val="cc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720" indent="-243720">
              <a:spcBef>
                <a:spcPts val="700"/>
              </a:spcBef>
              <a:buClr>
                <a:srgbClr val="cc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3720" indent="-243720">
              <a:spcBef>
                <a:spcPts val="700"/>
              </a:spcBef>
              <a:buClr>
                <a:srgbClr val="cc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907920"/>
            <a:ext cx="8229600" cy="5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60e06"/>
                </a:solidFill>
                <a:latin typeface="Arial"/>
              </a:rPr>
              <a:t>Механізм відбору, схвалення та реєстрації інвестиційних проектів у пріоритетних галузях економіки</a:t>
            </a:r>
            <a:endParaRPr b="1" lang="en-US" sz="2000" spc="-1" strike="noStrike">
              <a:solidFill>
                <a:srgbClr val="560e06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09480" y="1599840"/>
            <a:ext cx="79250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0680" indent="-220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13f9"/>
                </a:solidFill>
                <a:latin typeface="Arial"/>
              </a:rPr>
              <a:t>Для участі у відборі не допускаються інвестиційні проекти, якщ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0680" indent="-220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0680" indent="-2206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суб’єкти господарювання, які їх реалізують, визнані банкрутами, перебувають у стадії припинення, мають прострочену заборгованість із сплати податків і зборів (обов’язкових платежів), єдиного внеску на загальнообов’язкове, державне соціальне страхування, а також із заробітної плати або щодо яких порушено справу про банкрут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0680" indent="-2206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0680" indent="-2206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такі проекти не відповідають затвердженим Кабінетом Міністрів України вимогам до інвестиційних проектів у пріоритетних галузях економі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907920"/>
            <a:ext cx="8229600" cy="5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60e06"/>
                </a:solidFill>
                <a:latin typeface="Arial"/>
              </a:rPr>
              <a:t>Механізм відбору, схвалення та реєстрації інвестиційних проектів у пріоритетних галузях економіки</a:t>
            </a:r>
            <a:endParaRPr b="1" lang="en-US" sz="2000" spc="-1" strike="noStrike">
              <a:solidFill>
                <a:srgbClr val="560e06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8088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167400" indent="-1674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56c05"/>
                </a:solidFill>
                <a:latin typeface="Arial"/>
              </a:rPr>
              <a:t>Етап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7400" indent="-1674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блдержадміністрація здійснює п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еревірку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поданих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 інвестиційних проектів та їх </a:t>
            </a:r>
            <a:r>
              <a:rPr b="1" lang="uk-UA" sz="1600" spc="-1" strike="noStrike" u="sng">
                <a:solidFill>
                  <a:srgbClr val="000000"/>
                </a:solidFill>
                <a:uFillTx/>
                <a:latin typeface="Arial"/>
              </a:rPr>
              <a:t>відбір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 для подання на розгляд Мінекономрозвитку України </a:t>
            </a:r>
            <a:r>
              <a:rPr b="1" lang="uk-UA" sz="1600" spc="-1" strike="noStrike" u="sng">
                <a:solidFill>
                  <a:srgbClr val="000000"/>
                </a:solidFill>
                <a:uFillTx/>
                <a:latin typeface="Arial"/>
              </a:rPr>
              <a:t>або відхилення та повернення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 з обґрунтуванням причини на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67400" indent="-1674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67400" indent="-1674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ідповідність пункту 2 Порядку (заява та перелік документів описаних в попередніх слайдах етапу 1 – слайд 6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67400" indent="-1674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67400" indent="-167400">
              <a:lnSpc>
                <a:spcPct val="9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ідповідність проектів затвердженим Кабінетом Міністрів України вимогам до інвестиційних проектів у пріоритетних галузях економіки. (слайд 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67400" indent="-167400">
              <a:lnSpc>
                <a:spcPct val="9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67400" indent="-1674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Термін -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тягом п’яти робочих днів з дати їх надходженн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67400" indent="-1674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67400" indent="-1674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000000"/>
                </a:solidFill>
                <a:latin typeface="Arial"/>
              </a:rPr>
              <a:t>У разі повернення на доопрацюванн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67400" indent="-1674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uk-UA" sz="1600" spc="-1" strike="noStrike">
                <a:solidFill>
                  <a:srgbClr val="000000"/>
                </a:solidFill>
                <a:latin typeface="Arial"/>
              </a:rPr>
              <a:t>суб’єкт господарювання після доопрацювання повернутих документів може повторно подати облдержадміністрації заяву разом з документами, передбаченими пунктом 2, зазначивши результати попереднього розгляду і вжиті заход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67400" indent="-1674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67400" indent="-1674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Відбір здійснюється облдержадміністрацією з урахуванням Вимог до інвестиційних проектів на регулярній основі, </a:t>
            </a:r>
            <a:r>
              <a:rPr b="0" i="1" lang="uk-UA" sz="1600" spc="-1" strike="noStrike">
                <a:solidFill>
                  <a:srgbClr val="000000"/>
                </a:solidFill>
                <a:latin typeface="Arial"/>
              </a:rPr>
              <a:t>але не рідше одного разу в тиждень  (у разі наявності відповідних пропозицій суб’єктів господарювання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67400" indent="-1674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67400" indent="-1674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67400" indent="-1674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7400" indent="-1674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907920"/>
            <a:ext cx="8229600" cy="5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60e06"/>
                </a:solidFill>
                <a:latin typeface="Arial"/>
              </a:rPr>
              <a:t>Механізм відбору, схвалення та реєстрації інвестиційних проектів у пріоритетних галузях економіки</a:t>
            </a:r>
            <a:endParaRPr b="1" lang="en-US" sz="2000" spc="-1" strike="noStrike">
              <a:solidFill>
                <a:srgbClr val="560e06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80880" y="1523880"/>
            <a:ext cx="79250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56c05"/>
                </a:solidFill>
                <a:latin typeface="Arial"/>
              </a:rPr>
              <a:t>Етап 3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 u="sng">
                <a:solidFill>
                  <a:srgbClr val="000000"/>
                </a:solidFill>
                <a:uFillTx/>
                <a:latin typeface="Arial"/>
              </a:rPr>
              <a:t>Подання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обласними державними адміністраціями </a:t>
            </a:r>
            <a:r>
              <a:rPr b="1" lang="uk-UA" sz="2000" spc="-1" strike="noStrike" u="sng">
                <a:solidFill>
                  <a:srgbClr val="000000"/>
                </a:solidFill>
                <a:uFillTx/>
                <a:latin typeface="Arial"/>
              </a:rPr>
              <a:t>відібраних інвестиційних проектів до Мінекономрозвитку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разом із заявами суб'єктів господарювання та документами, які до них додають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0000"/>
                </a:solidFill>
                <a:latin typeface="Arial"/>
              </a:rPr>
              <a:t>(не пізніше, ніж на третій календарний день після проведення відбору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600" spc="-1" strike="noStrike">
                <a:solidFill>
                  <a:srgbClr val="0713f9"/>
                </a:solidFill>
                <a:latin typeface="Arial"/>
              </a:rPr>
              <a:t> 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Мінекономрозвитку </a:t>
            </a:r>
            <a:r>
              <a:rPr b="1" lang="uk-UA" sz="2000" spc="-1" strike="noStrike">
                <a:solidFill>
                  <a:srgbClr val="0713f9"/>
                </a:solidFill>
                <a:latin typeface="Arial"/>
              </a:rPr>
              <a:t>у п’ятнадцятиденний строк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з дня надходження від облдержадміністрацій відібраних інвестиційних проектів та документів розглядає їх та подає в установленому порядку Кабінетові Міністрів України пропозиції щодо схвалення інвестиційних проектів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uk-UA" sz="1800" spc="-1" strike="noStrike">
                <a:solidFill>
                  <a:srgbClr val="000000"/>
                </a:solidFill>
                <a:latin typeface="Arial"/>
              </a:rPr>
              <a:t>(проект рішення, погоджений із заінтересованими органами виконавчої влад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ww.PHILka.RU</cp:lastModifiedBy>
  <dcterms:modified xsi:type="dcterms:W3CDTF">2014-02-04T06:42:55Z</dcterms:modified>
  <cp:revision>9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